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9.gif" ContentType="image/gif"/>
  <Override PartName="/ppt/media/image1.png" ContentType="image/png"/>
  <Override PartName="/ppt/media/image3.jpeg" ContentType="image/jpeg"/>
  <Override PartName="/ppt/media/image2.jpeg" ContentType="image/jpeg"/>
  <Override PartName="/ppt/media/image7.jpeg" ContentType="image/jpeg"/>
  <Override PartName="/ppt/media/image20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424d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424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2C87E-7DEF-4AE0-96D0-7B33A30E9C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rying this with your students be aware that there are different definitions of trapezoid found in current textboo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SOLU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ing the squ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k the trapezoid into smaller geometric shapes and find the areas of e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truct a big triangle or rectangle that encloses the trapezoid.  Find the area of that figure and then subtract the extra new sha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good activity to introduce Geoboards so that students understand the meaning of one un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ways of exploring this concept include measuring, superimposing Geoboards, Pythagorean Theorem, properties of a triangl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 pictures as needed to assist with the second 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BB28-D83C-49E6-A7CC-4DC48A26A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424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CB71-0ADB-40ED-AF1D-ECF6D47B9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424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8ADC-E22A-4E5F-B902-943232365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424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5E84-9E6C-41F1-B44A-0760B3423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424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19FE-1CD9-4F75-8649-38C0D3189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424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8DC3-92EC-4C7E-BF70-23E8B5B9F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424d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5A38-B79B-46D9-9C96-DCFFCDBD1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42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48C8-63BD-4226-BA46-AD0E43A8B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81CC-937C-4A6B-93A3-316DA4ACA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424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E08A-F6C9-4830-A83F-370007E0C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424d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56AC-5E31-4E11-879F-A47A38B83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424d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09C2-D240-45E2-B9D8-6D6D2C4DB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ffce"/>
          </a:solidFill>
          <a:ln w="127080">
            <a:solidFill>
              <a:srgbClr val="5a3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04920" y="380880"/>
            <a:ext cx="8458200" cy="6172200"/>
          </a:xfrm>
          <a:prstGeom prst="rect">
            <a:avLst/>
          </a:prstGeom>
          <a:solidFill>
            <a:srgbClr val="ceffce"/>
          </a:solidFill>
          <a:ln w="127080">
            <a:solidFill>
              <a:srgbClr val="ffe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424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42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342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42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342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42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342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42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6342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42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6342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42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42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42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ADA9E-6C58-4FDC-A1E7-F8723FBB48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6858000" y="4648320"/>
            <a:ext cx="1762200" cy="1695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8483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424d"/>
                </a:solidFill>
                <a:latin typeface="Arial"/>
              </a:rPr>
              <a:t>Geoboards</a:t>
            </a:r>
            <a:endParaRPr b="1" lang="en-US" sz="4400" spc="-1" strike="noStrike">
              <a:solidFill>
                <a:srgbClr val="ff424d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62120" y="2532240"/>
            <a:ext cx="2238120" cy="3487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3" name=""/>
          <p:cNvSpPr/>
          <p:nvPr/>
        </p:nvSpPr>
        <p:spPr>
          <a:xfrm>
            <a:off x="3733920" y="3124080"/>
            <a:ext cx="4800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a31ff"/>
                </a:solidFill>
                <a:latin typeface="Arial"/>
              </a:rPr>
              <a:t>Building Understa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a31ff"/>
                </a:solidFill>
                <a:latin typeface="Arial"/>
              </a:rPr>
              <a:t>Dispelling Misundersta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424d"/>
                </a:solidFill>
                <a:latin typeface="Arial"/>
              </a:rPr>
              <a:t>Leading Math Success</a:t>
            </a:r>
            <a:endParaRPr b="1" lang="en-US" sz="4400" spc="-1" strike="noStrike">
              <a:solidFill>
                <a:srgbClr val="ff424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19076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42ff"/>
                </a:solidFill>
                <a:latin typeface="Arial"/>
              </a:rPr>
              <a:t>Now we must find ways to</a:t>
            </a:r>
            <a:endParaRPr b="1" lang="en-US" sz="2000" spc="-1" strike="noStrike">
              <a:solidFill>
                <a:srgbClr val="6342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42ff"/>
                </a:solidFill>
                <a:latin typeface="Arial"/>
              </a:rPr>
              <a:t>make major mathematics</a:t>
            </a:r>
            <a:endParaRPr b="1" lang="en-US" sz="2000" spc="-1" strike="noStrike">
              <a:solidFill>
                <a:srgbClr val="6342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42ff"/>
                </a:solidFill>
                <a:latin typeface="Arial"/>
              </a:rPr>
              <a:t>ideas learnable by the large</a:t>
            </a:r>
            <a:endParaRPr b="1" lang="en-US" sz="2000" spc="-1" strike="noStrike">
              <a:solidFill>
                <a:srgbClr val="6342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42ff"/>
                </a:solidFill>
                <a:latin typeface="Arial"/>
              </a:rPr>
              <a:t>majority of people…</a:t>
            </a:r>
            <a:endParaRPr b="1" lang="en-US" sz="2000" spc="-1" strike="noStrike">
              <a:solidFill>
                <a:srgbClr val="6342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42ff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6342ff"/>
                </a:solidFill>
                <a:latin typeface="Arial"/>
              </a:rPr>
              <a:t>(Jim Kaput, 1998)</a:t>
            </a:r>
            <a:endParaRPr b="1" lang="en-US" sz="2000" spc="-1" strike="noStrike">
              <a:solidFill>
                <a:srgbClr val="6342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342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315288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424d"/>
                </a:solidFill>
                <a:latin typeface="Arial"/>
              </a:rPr>
              <a:t>Introducing Geoboards</a:t>
            </a:r>
            <a:endParaRPr b="1" lang="en-US" sz="4400" spc="-1" strike="noStrike">
              <a:solidFill>
                <a:srgbClr val="ff424d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523880" y="2057400"/>
            <a:ext cx="2238480" cy="3487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9" name=""/>
          <p:cNvSpPr/>
          <p:nvPr/>
        </p:nvSpPr>
        <p:spPr>
          <a:xfrm>
            <a:off x="4114800" y="51055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7301"/>
                </a:moveTo>
                <a:lnTo>
                  <a:pt x="11183" y="7301"/>
                </a:lnTo>
                <a:lnTo>
                  <a:pt x="11566" y="7667"/>
                </a:lnTo>
                <a:lnTo>
                  <a:pt x="20775" y="7667"/>
                </a:lnTo>
                <a:lnTo>
                  <a:pt x="21332" y="8224"/>
                </a:lnTo>
                <a:lnTo>
                  <a:pt x="21332" y="8772"/>
                </a:lnTo>
                <a:lnTo>
                  <a:pt x="23177" y="8772"/>
                </a:lnTo>
                <a:lnTo>
                  <a:pt x="23543" y="8224"/>
                </a:lnTo>
                <a:lnTo>
                  <a:pt x="24282" y="8224"/>
                </a:lnTo>
                <a:lnTo>
                  <a:pt x="24282" y="13376"/>
                </a:lnTo>
                <a:lnTo>
                  <a:pt x="23543" y="13376"/>
                </a:lnTo>
                <a:lnTo>
                  <a:pt x="23177" y="12828"/>
                </a:lnTo>
                <a:lnTo>
                  <a:pt x="21332" y="12828"/>
                </a:lnTo>
                <a:lnTo>
                  <a:pt x="21332" y="14107"/>
                </a:lnTo>
                <a:lnTo>
                  <a:pt x="11749" y="14107"/>
                </a:lnTo>
                <a:lnTo>
                  <a:pt x="11749" y="9877"/>
                </a:lnTo>
                <a:lnTo>
                  <a:pt x="11566" y="9877"/>
                </a:lnTo>
                <a:lnTo>
                  <a:pt x="11183" y="10243"/>
                </a:lnTo>
                <a:lnTo>
                  <a:pt x="10269" y="10243"/>
                </a:lnTo>
                <a:close/>
              </a:path>
            </a:pathLst>
          </a:custGeom>
          <a:noFill/>
          <a:ln w="9360">
            <a:solidFill>
              <a:srgbClr val="e731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424d"/>
                </a:solidFill>
                <a:latin typeface="Arial"/>
              </a:rPr>
              <a:t>Virtual Geoboards</a:t>
            </a:r>
            <a:endParaRPr b="1" lang="en-US" sz="4400" spc="-1" strike="noStrike">
              <a:solidFill>
                <a:srgbClr val="ff424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42ff"/>
                </a:solidFill>
                <a:latin typeface="Arial"/>
              </a:rPr>
              <a:t>http://matti.usu.edu/nlvm/nav/vlibrary.html</a:t>
            </a: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048120" y="4495680"/>
            <a:ext cx="1938240" cy="18018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838080" y="2514600"/>
            <a:ext cx="1938600" cy="1803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5257800" y="2514600"/>
            <a:ext cx="1873080" cy="17683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3048120" y="2514600"/>
            <a:ext cx="1909800" cy="18050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424d"/>
                </a:solidFill>
                <a:latin typeface="Arial"/>
              </a:rPr>
              <a:t>Developing Understanding</a:t>
            </a:r>
            <a:endParaRPr b="1" lang="en-US" sz="4400" spc="-1" strike="noStrike">
              <a:solidFill>
                <a:srgbClr val="ff424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499"/>
              </a:spcBef>
              <a:buClr>
                <a:srgbClr val="6342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42ff"/>
                </a:solidFill>
                <a:latin typeface="Arial"/>
              </a:rPr>
              <a:t>Construct a trapezoid using the Geoboard.  (Trapezoid:  a quadrilateral having one pair of opposite sides parallel and unequal in length).</a:t>
            </a:r>
            <a:endParaRPr b="1" lang="en-US" sz="2000" spc="-1" strike="noStrike">
              <a:solidFill>
                <a:srgbClr val="6342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6342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42ff"/>
                </a:solidFill>
                <a:latin typeface="Arial"/>
              </a:rPr>
              <a:t>Find the area of the trapezoid in more than one way.</a:t>
            </a:r>
            <a:endParaRPr b="1" lang="en-US" sz="2000" spc="-1" strike="noStrike">
              <a:solidFill>
                <a:srgbClr val="6342ff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342ff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62120" y="3429000"/>
            <a:ext cx="1617480" cy="1212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514600" y="3429000"/>
            <a:ext cx="1617840" cy="12128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4267080" y="3429000"/>
            <a:ext cx="1617840" cy="12128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762120" y="4876920"/>
            <a:ext cx="1617480" cy="12128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2514600" y="4876920"/>
            <a:ext cx="1617840" cy="12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424d"/>
                </a:solidFill>
                <a:latin typeface="Arial"/>
              </a:rPr>
              <a:t>Dispelling Misunderstanding</a:t>
            </a:r>
            <a:endParaRPr b="1" lang="en-US" sz="4400" spc="-1" strike="noStrike">
              <a:solidFill>
                <a:srgbClr val="ff424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6342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42ff"/>
                </a:solidFill>
                <a:latin typeface="Arial"/>
              </a:rPr>
              <a:t>One common problem is the students using the diagonal as a unit measure of 1.  To solve this problem have the students construct a horizontal line of 5 pegs and a diagonal line of pegs 5 and compare the lengths.</a:t>
            </a: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6342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42ff"/>
                </a:solidFill>
                <a:latin typeface="Arial"/>
              </a:rPr>
              <a:t>Knowing this, how would you assist a student who constructs the trapezoid on the diagonal?</a:t>
            </a: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38080" y="4495680"/>
            <a:ext cx="1617840" cy="12128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743200" y="4495680"/>
            <a:ext cx="1617840" cy="12128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4800600" y="4495680"/>
            <a:ext cx="1617840" cy="12128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6781680" y="4495680"/>
            <a:ext cx="1617840" cy="12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424d"/>
                </a:solidFill>
                <a:latin typeface="Arial"/>
              </a:rPr>
              <a:t>Reflection</a:t>
            </a:r>
            <a:endParaRPr b="1" lang="en-US" sz="4400" spc="-1" strike="noStrike">
              <a:solidFill>
                <a:srgbClr val="ff424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6342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6342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6342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42ff"/>
                </a:solidFill>
                <a:latin typeface="Arial"/>
              </a:rPr>
              <a:t>Give students the task to create a figure with an area of 9 square uni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6342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42ff"/>
                </a:solidFill>
                <a:latin typeface="Arial"/>
              </a:rPr>
              <a:t>Once the task is complete, students take a walk around the room observing the outcome of each student’s interpretation of the ta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6342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42ff"/>
                </a:solidFill>
                <a:latin typeface="Arial"/>
              </a:rPr>
              <a:t>Using an overhead, invite some students to demonstrate the process used to                  create the fig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424d"/>
                </a:solidFill>
                <a:latin typeface="Arial"/>
              </a:rPr>
              <a:t>Next Steps</a:t>
            </a:r>
            <a:endParaRPr b="1" lang="en-US" sz="4400" spc="-1" strike="noStrike">
              <a:solidFill>
                <a:srgbClr val="ff424d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38280" y="1600200"/>
            <a:ext cx="44197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42ff"/>
                </a:solidFill>
                <a:latin typeface="Arial"/>
              </a:rPr>
              <a:t>Try one of the activities or explore one of the websites from the LMS manipulative sh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42ff"/>
                </a:solidFill>
                <a:latin typeface="Arial"/>
              </a:rPr>
              <a:t>Use the Anticipation Gui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42ff"/>
                </a:solidFill>
                <a:latin typeface="Arial"/>
              </a:rPr>
              <a:t>(P. 10 – 14, Think Literac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42ff"/>
                </a:solidFill>
                <a:latin typeface="Arial"/>
              </a:rPr>
              <a:t>Mathematic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42ff"/>
                </a:solidFill>
                <a:latin typeface="Arial"/>
              </a:rPr>
              <a:t>Students could be                prompted to predict the result of “What if?” situ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1290600" cy="16765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838080" y="3809880"/>
            <a:ext cx="127332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424d"/>
                </a:solidFill>
                <a:latin typeface="Arial"/>
              </a:rPr>
              <a:t>Leading Math Success</a:t>
            </a:r>
            <a:endParaRPr b="1" lang="en-US" sz="4400" spc="-1" strike="noStrike">
              <a:solidFill>
                <a:srgbClr val="ff424d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543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42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6342ff"/>
                </a:solidFill>
                <a:latin typeface="Arial"/>
              </a:rPr>
              <a:t>The key to the successful use of manipulatives lies in the bridge - which must be built by the teacher - between the artifact and the underlying mathematical concepts.”</a:t>
            </a:r>
            <a:endParaRPr b="1" lang="en-US" sz="2000" spc="-1" strike="noStrike">
              <a:solidFill>
                <a:srgbClr val="6342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33520" y="4248000"/>
            <a:ext cx="1981080" cy="19814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895480" y="4267080"/>
            <a:ext cx="3705480" cy="20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9T01:47:04Z</dcterms:created>
  <dc:creator>Judy Dussiaume</dc:creator>
  <dc:description/>
  <dc:language>en-US</dc:language>
  <cp:lastModifiedBy>Ross Isenegger</cp:lastModifiedBy>
  <cp:lastPrinted>2005-04-21T15:52:13Z</cp:lastPrinted>
  <dcterms:modified xsi:type="dcterms:W3CDTF">2005-04-29T16:48:41Z</dcterms:modified>
  <cp:revision>23</cp:revision>
  <dc:subject/>
  <dc:title>Using Manipulatives to Build Understanding</dc:title>
</cp:coreProperties>
</file>